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809-CB99-4E08-9330-A47C8ED0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8AA-A112-4943-A555-165A38F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69400-5CF6-4D20-AF0D-A3EEBE21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940B-6CC1-49AC-9CD5-8BE091C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2662-3392-43DE-8E3A-34D6B1A8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D96D-F528-4787-8DA2-64666D1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EECF-8AE3-4C88-9FFB-9D8B546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67C89-6006-42C2-9F3E-34FB0B9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F624A-DF78-43FC-9129-B615599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8352-FB92-4937-8846-D8E88CC2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59F60-789C-42C5-9B23-CDD60B99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019B5-A758-4887-89F8-098A254A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F3C-BE69-4BDA-A6AE-3497768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5F252-A251-492E-ACD9-5CE8A3C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10B5F-802E-4EB0-BA71-502BD32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365BF-16E1-406F-B36E-05C1F3B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5EEBD-BCBF-4368-9A6F-C917C62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3B041-0261-432B-AEB1-49E49EA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11551-5EF8-427E-B9A8-E9E59D9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AEC43-1F9A-4154-8ED2-675F243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ADE12-A157-4129-9F5B-869B13D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E0B4D-BE3C-4A16-820F-2D945EC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D3AEE-8CC1-4EE9-90F0-BD45127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586-25C4-4847-8A80-52F73A9F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A479B-709F-48DA-8258-D8941932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81EA-C7E2-41C8-9572-6F99E66A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F1AED-43A5-42BD-9135-FA1FC528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924D6-C24E-488E-B759-EFDA4113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F654-3193-4FC6-B4B2-B1E4F31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34C9-830E-41A2-937B-B4601078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518C-6D33-4631-BC1B-2E31D2F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D44A-5197-4E77-A167-6826E12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82EB-2726-4A32-BEC9-4AAEECE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70C0A-A7B9-4597-87E4-ADCF234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6EA-2848-44BD-9046-423617EB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E8260-36F0-418C-B2D9-16EE0BA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9620D-5BE8-400C-80F2-7A5B1DD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53B48-9DEB-4530-969F-7F6DD2BD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DFB9-57D9-4598-828E-2859DFDC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91857-DF3E-4A44-9415-EE33A13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69699-3836-4948-A76B-3F951103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B0000-88CF-4BDD-819D-7F7227FB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0956B-163D-46CA-9A1C-CA01354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0AF92-1354-48D7-8253-D718FFEC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3F208-481C-474A-AA90-E02D0A0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B68-0418-4D72-9C57-737E911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6CBD-6EFE-4095-89F7-00CA1237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A5359-87BB-4C57-861E-2762036B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CF566-5FCD-4129-B09E-CC2AC05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915B-61D2-4D44-A5E2-6FE66465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61C8-C177-4611-B282-171C69D6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C74B-8847-4E9E-ACD4-F1F1A8E2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576-AA68-47F7-B00B-447A6BA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4616-F5E0-43A9-996E-1FC8397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3F7B-73E8-4751-9BC4-DE2FDBEE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32FE-8E45-4722-BBAE-735315C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991-FBF9-4580-ADDC-3732D357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4D05-C4D4-4019-98BC-861E064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665-FAA2-4A9D-A17E-3DFB0A98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C8A1-61DC-40F4-A9D5-855ED19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AF76-7D48-4913-91A5-FE087C84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F881-F8A8-4392-8AEE-B6BA22C6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10C9-2ADC-4A77-92EB-57C5C3C8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8CFF-9E2A-48EE-A7B7-FC9AE5F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03F1-B154-4222-AFEA-E5C3CD46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135F-D0AD-4A71-A585-24BD232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7775-B5C1-4EDD-8B61-CE5A450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AF2-5B18-48F5-B96E-BFAE1451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7F4A-3EC2-4759-A53D-4F5D8F1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57D8-F177-4801-972A-84ED360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DDBD-830F-418C-881E-42C27C2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2318-BA86-4935-A1E8-E3841BA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494F-0451-439E-92A1-A14A8E4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8BCB-76A8-48BA-B4BC-A78E87B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07DA-90F5-4A6F-BF38-BDACD580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1983-9300-47D3-96B3-5A45DF5D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4424-80EF-4B45-92CF-B6FD5B71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82BA-B95E-4462-B9CF-DC38E2B9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72A-DE81-4042-A943-D34875C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F9FD-6ED9-4DB2-BD73-6259CE4C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08E2-57C8-41C1-A122-9E95094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2B08-AFF0-4A4A-A971-A051828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29FF-AFFC-4CCA-83A3-30C4216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04B8-4D32-4E52-8B39-7C7244E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BCF56-88C1-4815-9218-E5C71DA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D903-A81D-44C6-9C59-262BF03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C5A7-4BDC-4625-B377-DE128C33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C1C4-CC9B-4757-AAA2-96BB124E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C16EB-95EE-426D-982F-2DFCECC9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26B-9510-4E56-9051-5448257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4146-D7D9-4D25-BBE1-C697E66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D3FF-E349-424B-B56A-80E4AB9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BBB5-748F-40B5-9AD7-A44FF2B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D256-2E5E-4C1C-99DA-4EF3CB8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C9B1F-0D22-41D7-87B6-040DBD9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FD1BE-E726-403A-A010-07C234A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6611-8B8A-41E2-BDFD-24A7B0A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3C66-FBC5-4008-83D5-1048DD1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15E8-07B3-4DF8-9B8B-A66AD13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0CBA-020A-4471-A9C0-DDF3FE05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350-E897-4EB4-B380-B139BCF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E140-CC0B-4A37-8158-E779BEF6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BB416-E3CA-4AF8-B0FF-F0B40A81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C87CC-A337-4EC3-A0C6-E7B3EB7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AC9E-D75E-4404-8FE3-301EF980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BA56-7C34-4B22-BBB0-355423E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F56E-36E0-48F4-9F51-8CC90AF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0E0F-BD4D-4EBE-B1AE-C3F5151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F62D-E1FC-4915-B9E5-8FACF05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51C2-BD1B-4DC6-B299-6407AF5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E597-3E1F-4F64-984D-A74B5E3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F9E-0A88-41FD-9B00-C757A8B1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CD78-9A78-4CC8-B077-4D6139B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FA8D-B372-487D-AB4E-B0346F27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4C86-34D5-4E55-957C-9025045B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D966-0BEA-4041-9ED3-CFE0F7F8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558CB-A8E6-4D90-9749-C0D7513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5510-DEF8-44E7-B10A-0268AE1C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D421-23C6-4BA0-A672-11C5748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AC812-1FEB-4C7B-9BBB-87BC7E48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88D4-0E7E-4B35-B34F-C8EE087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02A3-0829-431C-B107-D9E5CE8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CB3-EA7C-4A10-92DF-8F718D5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7F78-8041-4039-A0F3-5DFAA71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75B8-905F-4B1B-BABA-A51315C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27D0-E5DC-464E-87C6-75175E56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8407E-B3F5-499A-BB86-A0E65BCD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2714-E60C-4C5A-8771-AC3A59C7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30318-DAD5-4FB6-9307-CF562725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09C51-A6F6-48A9-AEFB-3B56819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9E0F7-58EB-4DBC-8A28-3C6436FB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5A6A-2372-4F28-BFFF-8E4DAEDE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64B5-E297-4826-83D9-BB3C47C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D8A-CD4A-41B5-BC93-E29BCAD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B5A10-9005-48E2-98CD-7E71875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3FBA3-FFEC-470F-A105-316DEC9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9FCB6-5102-4F2E-A8F2-2662A64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4CAAE-D903-4C7C-B8C4-4CD30FE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4CB0-4BF7-4BC9-8E0E-A4E2C546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18F1-DFE4-4873-8521-7DA2F786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5BBB4-77C3-435C-A76C-B7D2D414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BB22A-7BE1-490A-9926-5D18B718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9F01B-0A9B-4847-984A-6D78E465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10B75-2724-4DC5-9D32-550C151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B165-6FBC-4852-8D70-A129079E5B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C240-2D54-4F1E-B1EF-FF5FA7DD3F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90E-2587-4253-BAE8-D871FB87ED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BBE-3679-48C1-A136-A07F873B5F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335C-156A-423D-92C6-472FF2C4C5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2EE-90D1-49F6-9495-DBD949705C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D86-502F-4A85-9BA0-CC1E6FA30E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8E83-1F50-4EB2-AA75-930228BF63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57F7-6638-43E4-89B9-A02959B754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964-E8FF-44DA-B769-DD2D289415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DDC9-C3E9-4061-80AC-25AF416D5A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117-4F37-4356-BC4D-1F4BA4F9D7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3 Haleluja! Chváľme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Chváľme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česť mu vzdáva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d jeho majestá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kore sa skláň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on k nám na zem pri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u neba opust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vojou krvou drah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u spásu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Náš Pán žij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ho oblak od nás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e, že je stále s n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ám sľub ten zanec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, kto vierou Boha vz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v duši môže m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uch Svätý bude stá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srdci preb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Chlieb náš z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ou sa tu sýti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me hriešni, predsa den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blízkosť cí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hovárať ráč sa za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me, Pane,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me raz mohli spie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všetkých spasenýc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09:12Z</dcterms:modified>
  <cp:revision>32</cp:revision>
  <dc:subject/>
  <dc:title>Je veľký náš Pán, on slávy je Kráľ Nech do všetkých strán  spev vrúcnych znie chvál.</dc:title>
</cp:coreProperties>
</file>